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3D28-44D5-4A30-A12B-DBC9D2EA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199D-EA98-46A0-81E6-EFD3C5B6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776A-AE10-490C-8962-55CF6760A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33BF-C89F-4ED1-B0FD-44A116E83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A747-E65D-493D-BFF0-FDE769B1D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B7AF5-0358-48B7-91BE-8960A6EC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8520-6372-4F59-BF73-97DFF473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3005-0009-4622-9232-F41CEAC9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CE66-877E-4B12-A548-496FF2A0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4584-1A73-47CE-8BC0-454CB8AA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35E2-7EA5-4726-B601-D40D75C0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8256-D34F-4606-94E9-417C8E74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B773-5C33-4546-B9F4-62C960A5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C618-A0C0-40EB-B0FB-BEFCADDF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B2A0-94C6-4A67-BE77-47A321C6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649C-C539-4320-8C75-6265C1960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3B8F-0830-4074-81F6-D531E689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019F-2E50-4459-82E9-7C564015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D7FE-A057-4243-883C-19CE58A4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81A8-7172-4BA8-99A0-B57BB7A5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474A-0ABF-41C3-AA60-01A765CE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64E9-F1FA-41A8-AE64-F5E845A3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3FD0-4AA5-43F8-B996-8ADB6FB1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ADD6-00BA-455E-8539-D977D824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B556-00E0-474E-A869-28E90B3CC2A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0911-0543-4DDD-8FA1-2D1A9EB8090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Base-Ionization Equilibria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quilibria involving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eak bas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re treated similarly to those for weak acid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33520" y="2819520"/>
            <a:ext cx="8007120" cy="4113000"/>
            <a:chOff x="533520" y="2819520"/>
            <a:chExt cx="8007120" cy="4113000"/>
          </a:xfrm>
        </p:grpSpPr>
        <p:sp>
          <p:nvSpPr>
            <p:cNvPr id="95" name=""/>
            <p:cNvSpPr/>
            <p:nvPr/>
          </p:nvSpPr>
          <p:spPr>
            <a:xfrm>
              <a:off x="609480" y="2819520"/>
              <a:ext cx="7769520" cy="41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76bb4"/>
                  </a:solidFill>
                  <a:latin typeface="Arial"/>
                </a:rPr>
                <a:t>Ammonia, for example, ionizes in water as follow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533520" y="3733920"/>
              <a:ext cx="8007120" cy="583920"/>
              <a:chOff x="533520" y="3733920"/>
              <a:chExt cx="8007120" cy="583920"/>
            </a:xfrm>
          </p:grpSpPr>
          <mc:AlternateContent>
            <mc:Choice xmlns:a14="http://schemas.microsoft.com/office/drawing/2010/main" Requires="a14">
              <p:sp>
                <p:nvSpPr>
                  <p:cNvPr id="97" name=""/>
                  <p:cNvSpPr txBox="1"/>
                  <p:nvPr/>
                </p:nvSpPr>
                <p:spPr>
                  <a:xfrm>
                    <a:off x="533520" y="3733920"/>
                    <a:ext cx="8007120" cy="583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NH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98" name=""/>
              <p:cNvGrpSpPr/>
              <p:nvPr/>
            </p:nvGrpSpPr>
            <p:grpSpPr>
              <a:xfrm>
                <a:off x="3892320" y="3978000"/>
                <a:ext cx="756000" cy="136440"/>
                <a:chOff x="3892320" y="3978000"/>
                <a:chExt cx="756000" cy="1364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3892680" y="3978000"/>
                  <a:ext cx="755640" cy="0"/>
                </a:xfrm>
                <a:prstGeom prst="line">
                  <a:avLst/>
                </a:prstGeom>
                <a:ln w="41400">
                  <a:solidFill>
                    <a:srgbClr val="ff99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>
                  <a:off x="3892320" y="4114440"/>
                  <a:ext cx="755640" cy="0"/>
                </a:xfrm>
                <a:prstGeom prst="line">
                  <a:avLst/>
                </a:prstGeom>
                <a:ln w="41400">
                  <a:solidFill>
                    <a:srgbClr val="ff99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1" name=""/>
          <p:cNvGrpSpPr/>
          <p:nvPr/>
        </p:nvGrpSpPr>
        <p:grpSpPr>
          <a:xfrm>
            <a:off x="609480" y="4495680"/>
            <a:ext cx="7769520" cy="4113360"/>
            <a:chOff x="609480" y="4495680"/>
            <a:chExt cx="7769520" cy="4113360"/>
          </a:xfrm>
        </p:grpSpPr>
        <p:sp>
          <p:nvSpPr>
            <p:cNvPr id="102" name=""/>
            <p:cNvSpPr/>
            <p:nvPr/>
          </p:nvSpPr>
          <p:spPr>
            <a:xfrm>
              <a:off x="609480" y="4495680"/>
              <a:ext cx="7769520" cy="41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76bb4"/>
                  </a:solidFill>
                  <a:latin typeface="Arial"/>
                </a:rPr>
                <a:t>The corresponding equilibrium constant i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2352600" y="5032440"/>
                  <a:ext cx="3595680" cy="12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H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4</m:t>
                                  </m:r>
                                </m:e>
                                <m:sup>
                                  <m:r>
                                    <m:t xml:space="preserve">+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]</m:t>
                          </m:r>
                          <m:r>
                            <m:t xml:space="preserve">[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H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</m:sup>
                          </m:sSup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[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H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]</m:t>
                          </m:r>
                          <m:r>
                            <m:t xml:space="preserve">[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O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B735-90F2-4D39-B798-CB2173739E21}" type="slidenum">
              <a:t>1</a:t>
            </a:fld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 pH of a 0.20 M solution of pyridine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, in aqueous solution? The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pyridine is 1.4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9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3335400"/>
            <a:ext cx="77691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Solving for x we 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443320" y="3886200"/>
                <a:ext cx="43383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≃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9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33520" y="4724280"/>
                <a:ext cx="816912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517920" y="5638680"/>
                <a:ext cx="3416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≃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BDA0-52DB-4EE6-AC6D-FE60B2A80AB2}" type="slidenum">
              <a:t>10</a:t>
            </a:fld>
          </a:p>
        </p:txBody>
      </p:sp>
    </p:spTree>
  </p:cSld>
  <p:transition spd="med">
    <p:dissolv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the pH of a 0.20 M solution of pyridine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, in aqueous solution? Th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or pyridine is 1.4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3335400"/>
            <a:ext cx="77691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Solving for p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671400" y="3886200"/>
                <a:ext cx="78836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H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OH</m:t>
                    </m:r>
                    <m:r>
                      <m:t xml:space="preserve">−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5" name=""/>
          <p:cNvGrpSpPr/>
          <p:nvPr/>
        </p:nvGrpSpPr>
        <p:grpSpPr>
          <a:xfrm>
            <a:off x="666720" y="4573440"/>
            <a:ext cx="7769160" cy="4113360"/>
            <a:chOff x="666720" y="4573440"/>
            <a:chExt cx="7769160" cy="4113360"/>
          </a:xfrm>
        </p:grpSpPr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1271160" y="5334120"/>
                  <a:ext cx="6784920" cy="45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H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0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pOH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0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t xml:space="preserve">=</m:t>
                      </m:r>
                      <m:r>
                        <m:t xml:space="preserve">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7" name=""/>
            <p:cNvSpPr/>
            <p:nvPr/>
          </p:nvSpPr>
          <p:spPr>
            <a:xfrm>
              <a:off x="666720" y="4573440"/>
              <a:ext cx="7769160" cy="41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76bb4"/>
                  </a:solidFill>
                  <a:latin typeface="Arial"/>
                </a:rPr>
                <a:t>Since   pH + pOH = 14.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B65B-762B-4EF2-80A9-52B1C7DB8884}" type="slidenum">
              <a:t>11</a:t>
            </a:fld>
          </a:p>
        </p:txBody>
      </p:sp>
    </p:spTree>
  </p:cSld>
  <p:transition spd="med">
    <p:dissolv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Base-Ionization Equilibria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quilibria involving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eak bas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re treated similarly to those for weak acid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33520" y="2819520"/>
            <a:ext cx="8007120" cy="4113000"/>
            <a:chOff x="533520" y="2819520"/>
            <a:chExt cx="8007120" cy="4113000"/>
          </a:xfrm>
        </p:grpSpPr>
        <p:sp>
          <p:nvSpPr>
            <p:cNvPr id="107" name=""/>
            <p:cNvSpPr/>
            <p:nvPr/>
          </p:nvSpPr>
          <p:spPr>
            <a:xfrm>
              <a:off x="609480" y="2819520"/>
              <a:ext cx="7769520" cy="41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76bb4"/>
                  </a:solidFill>
                  <a:latin typeface="Arial"/>
                </a:rPr>
                <a:t>Ammonia, for example, ionizes in water as follow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33520" y="3733920"/>
              <a:ext cx="8007120" cy="583920"/>
              <a:chOff x="533520" y="3733920"/>
              <a:chExt cx="8007120" cy="583920"/>
            </a:xfrm>
          </p:grpSpPr>
          <mc:AlternateContent>
            <mc:Choice xmlns:a14="http://schemas.microsoft.com/office/drawing/2010/main" Requires="a14">
              <p:sp>
                <p:nvSpPr>
                  <p:cNvPr id="109" name=""/>
                  <p:cNvSpPr txBox="1"/>
                  <p:nvPr/>
                </p:nvSpPr>
                <p:spPr>
                  <a:xfrm>
                    <a:off x="533520" y="3733920"/>
                    <a:ext cx="8007120" cy="583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NH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110" name=""/>
              <p:cNvGrpSpPr/>
              <p:nvPr/>
            </p:nvGrpSpPr>
            <p:grpSpPr>
              <a:xfrm>
                <a:off x="3892320" y="3978000"/>
                <a:ext cx="756000" cy="136440"/>
                <a:chOff x="3892320" y="3978000"/>
                <a:chExt cx="756000" cy="13644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3892680" y="3978000"/>
                  <a:ext cx="755640" cy="0"/>
                </a:xfrm>
                <a:prstGeom prst="line">
                  <a:avLst/>
                </a:prstGeom>
                <a:ln w="41400">
                  <a:solidFill>
                    <a:srgbClr val="ff99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H="1">
                  <a:off x="3892320" y="4114440"/>
                  <a:ext cx="755640" cy="0"/>
                </a:xfrm>
                <a:prstGeom prst="line">
                  <a:avLst/>
                </a:prstGeom>
                <a:ln w="41400">
                  <a:solidFill>
                    <a:srgbClr val="ff99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3" name=""/>
          <p:cNvSpPr/>
          <p:nvPr/>
        </p:nvSpPr>
        <p:spPr>
          <a:xfrm>
            <a:off x="609480" y="4495680"/>
            <a:ext cx="8534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concentration of water is nearly const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790640" y="5029200"/>
                <a:ext cx="556272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]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5EE6-E6B7-4D41-8EAF-E9BC85686D2E}" type="slidenum">
              <a:t>2</a:t>
            </a:fld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Base-Ionization Equilibria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quilibria involving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eak bas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re treated similarly to those for weak acid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2819520"/>
            <a:ext cx="815364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general, a weak base B with the base i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103400" y="3505320"/>
                <a:ext cx="72784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      HB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9" name=""/>
          <p:cNvGrpSpPr/>
          <p:nvPr/>
        </p:nvGrpSpPr>
        <p:grpSpPr>
          <a:xfrm>
            <a:off x="3892320" y="3733920"/>
            <a:ext cx="756000" cy="136440"/>
            <a:chOff x="3892320" y="3733920"/>
            <a:chExt cx="756000" cy="136440"/>
          </a:xfrm>
        </p:grpSpPr>
        <p:sp>
          <p:nvSpPr>
            <p:cNvPr id="120" name=""/>
            <p:cNvSpPr/>
            <p:nvPr/>
          </p:nvSpPr>
          <p:spPr>
            <a:xfrm>
              <a:off x="3892680" y="3733920"/>
              <a:ext cx="75564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3892320" y="3870360"/>
              <a:ext cx="75564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09480" y="4191120"/>
            <a:ext cx="776952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has a base ionization constant equal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974960" y="4718160"/>
                <a:ext cx="4349520" cy="16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B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t xml:space="preserve">B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6616800" y="4848120"/>
            <a:ext cx="2298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6bb4"/>
                </a:solidFill>
                <a:latin typeface="Arial"/>
              </a:rPr>
              <a:t>Table on page 746 lists ionization constants for some weak b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5940-7460-4B7F-AF88-754B8622D626}" type="slidenum">
              <a:t>3</a:t>
            </a:fld>
          </a:p>
        </p:txBody>
      </p:sp>
    </p:spTree>
  </p:cSld>
  <p:transition spd="med"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the pH of a 0.20 M solution of pyridine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, in aqueous solution? Th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or pyridine is 1.4 x 10-9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3963960"/>
            <a:ext cx="815364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rite the equation and make a table of concent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Set up the equilibrium constant express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Solve for x = [OH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3430440"/>
            <a:ext cx="815364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s before, we will follow the three steps in solving an equilibri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8B35-519A-41CE-AE95-D3E8D3F6D934}" type="slidenum">
              <a:t>4</a:t>
            </a:fld>
          </a:p>
        </p:txBody>
      </p:sp>
    </p:spTree>
  </p:cSld>
  <p:transition spd="med">
    <p:dissolv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the pH of a 0.20 M solution of pyridine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, in aqueous solution? Th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or pyridine is 1.4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09480" y="3352680"/>
            <a:ext cx="8153640" cy="4113360"/>
            <a:chOff x="609480" y="3352680"/>
            <a:chExt cx="8153640" cy="4113360"/>
          </a:xfrm>
        </p:grpSpPr>
        <p:sp>
          <p:nvSpPr>
            <p:cNvPr id="132" name=""/>
            <p:cNvSpPr/>
            <p:nvPr/>
          </p:nvSpPr>
          <p:spPr>
            <a:xfrm>
              <a:off x="609480" y="3352680"/>
              <a:ext cx="8153640" cy="41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914400" indent="-457200">
                <a:lnSpc>
                  <a:spcPct val="100000"/>
                </a:lnSpc>
                <a:spcBef>
                  <a:spcPts val="601"/>
                </a:spcBef>
                <a:buClr>
                  <a:srgbClr val="cbd990"/>
                </a:buClr>
                <a:buFont typeface="Arial"/>
                <a:buChar char="–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Pyridine ionizes by picking up a proton from water (as ammonia does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1785960" y="4360680"/>
                  <a:ext cx="6900840" cy="41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5</m:t>
                          </m:r>
                        </m:sub>
                      </m:sSub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5</m:t>
                          </m:r>
                        </m:sub>
                      </m:sSub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q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O</m:t>
                      </m:r>
                      <m:r>
                        <m:t xml:space="preserve">(</m:t>
                      </m:r>
                      <m:r>
                        <m:t xml:space="preserve">l</m:t>
                      </m:r>
                      <m:r>
                        <m:t xml:space="preserve">)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        C</m:t>
                          </m:r>
                        </m:e>
                        <m:sub>
                          <m:r>
                            <m:t xml:space="preserve">5</m:t>
                          </m:r>
                        </m:sub>
                      </m:sSub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5</m:t>
                          </m:r>
                        </m:sub>
                      </m:sSub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NH</m:t>
                          </m:r>
                        </m:e>
                        <m:sup>
                          <m:r>
                            <m:t xml:space="preserve">+</m:t>
                          </m:r>
                        </m:sup>
                      </m:sSup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q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OH</m:t>
                          </m:r>
                        </m:e>
                        <m:sup>
                          <m:r>
                            <m:t xml:space="preserve">−</m:t>
                          </m:r>
                        </m:sup>
                      </m:sSup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q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34" name=""/>
            <p:cNvGrpSpPr/>
            <p:nvPr/>
          </p:nvGrpSpPr>
          <p:grpSpPr>
            <a:xfrm>
              <a:off x="4599000" y="4529160"/>
              <a:ext cx="658800" cy="118800"/>
              <a:chOff x="4599000" y="4529160"/>
              <a:chExt cx="658800" cy="118800"/>
            </a:xfrm>
          </p:grpSpPr>
          <p:sp>
            <p:nvSpPr>
              <p:cNvPr id="135" name=""/>
              <p:cNvSpPr/>
              <p:nvPr/>
            </p:nvSpPr>
            <p:spPr>
              <a:xfrm>
                <a:off x="4599000" y="4529160"/>
                <a:ext cx="658800" cy="0"/>
              </a:xfrm>
              <a:prstGeom prst="line">
                <a:avLst/>
              </a:prstGeom>
              <a:ln w="4140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4599000" y="4647960"/>
                <a:ext cx="658800" cy="0"/>
              </a:xfrm>
              <a:prstGeom prst="line">
                <a:avLst/>
              </a:prstGeom>
              <a:ln w="4140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37" name=""/>
          <p:cNvGraphicFramePr/>
          <p:nvPr/>
        </p:nvGraphicFramePr>
        <p:xfrm>
          <a:off x="457200" y="4952880"/>
          <a:ext cx="8458200" cy="1233720"/>
        </p:xfrm>
        <a:graphic>
          <a:graphicData uri="http://schemas.openxmlformats.org/drawingml/2006/table">
            <a:tbl>
              <a:tblPr/>
              <a:tblGrid>
                <a:gridCol w="1523880"/>
                <a:gridCol w="1447920"/>
                <a:gridCol w="1600200"/>
                <a:gridCol w="457200"/>
                <a:gridCol w="1828800"/>
                <a:gridCol w="1600200"/>
              </a:tblGrid>
              <a:tr h="366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tar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+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+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Equilibr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20-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A960-536B-4D0C-880A-93A42CF1BC81}" type="slidenum">
              <a:t>5</a:t>
            </a:fld>
          </a:p>
        </p:txBody>
      </p:sp>
    </p:spTree>
  </p:cSld>
  <p:transition spd="med"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the pH of a 0.20 M solution of pyridine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, in aqueous solution? Th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or pyridine is 1.4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3355920"/>
            <a:ext cx="7769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Note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5030640"/>
            <a:ext cx="731520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ich is much greater than 1000, so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we may use the simplifying assumption that (0.20-x)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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(0.20)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560600" y="3963960"/>
                <a:ext cx="59720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9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2A93-5FF6-4A0C-B01E-8ECD0F269BFE}" type="slidenum">
              <a:t>6</a:t>
            </a:fld>
          </a:p>
        </p:txBody>
      </p:sp>
    </p:spTree>
  </p:cSld>
  <p:transition spd="med"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the pH of a 0.20 M solution of pyridine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, in aqueous solution? Th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or pyridine is 1.4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3583080"/>
            <a:ext cx="776952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equilibrium expressio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077920" y="4419720"/>
                <a:ext cx="444348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N</m:t>
                        </m:r>
                        <m:r>
                          <m:t xml:space="preserve">]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51E4-1D59-48F8-9DC9-AAEA61590559}" type="slidenum">
              <a:t>7</a:t>
            </a:fld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the pH of a 0.20 M solution of pyridine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, in aqueous solution? Th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or pyridine is 1.4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689040" y="344952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If we substitute the equilibrium concentrations and the K</a:t>
            </a:r>
            <a:r>
              <a:rPr b="0" lang="en-US" sz="2800" spc="-1" strike="noStrike" baseline="-25000">
                <a:solidFill>
                  <a:srgbClr val="376bb4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into the equilibrium constant expression, we 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374920" y="4836960"/>
                <a:ext cx="3851280" cy="11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3908-4C7E-4ACE-B422-D18AE72BD3C8}" type="slidenum">
              <a:t>8</a:t>
            </a:fld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the pH of a 0.20 M solution of pyridine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, in aqueous solution? Th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or pyridine is 1.4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583080"/>
            <a:ext cx="77691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Using our simplifying assumption that the x in the denominator is negligible, we 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967120" y="4836960"/>
                <a:ext cx="3217680" cy="11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≃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1DFF-98CC-4167-BABF-3E5464E4F71D}" type="slidenum">
              <a:t>9</a:t>
            </a:fld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2T21:50:40Z</dcterms:created>
  <dc:creator>Billy Cook</dc:creator>
  <dc:description/>
  <cp:keywords/>
  <dc:language>en-US</dc:language>
  <cp:lastModifiedBy>C363966</cp:lastModifiedBy>
  <dcterms:modified xsi:type="dcterms:W3CDTF">2014-04-10T17:51:42Z</dcterms:modified>
  <cp:revision>194</cp:revision>
  <dc:subject>Chapter 17</dc:subject>
  <dc:title>Acid-Base Equilibria</dc:title>
</cp:coreProperties>
</file>